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us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64360" y="5493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us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Ursache 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Respirations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ompression dur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Veränderun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ußerhalb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Respirationstrakt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8" idx="3"/>
            <a:endCxn id="100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3" name=""/>
          <p:cNvCxnSpPr>
            <a:stCxn id="98" idx="3"/>
            <a:endCxn id="101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rsache im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spirations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er obe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tem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r unte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tem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5" idx="3"/>
            <a:endCxn id="10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9" name=""/>
          <p:cNvCxnSpPr>
            <a:stCxn id="105" idx="3"/>
            <a:endCxn id="10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986400" y="549360"/>
            <a:ext cx="40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usten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Ursache im Respirations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r obe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tem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800" y="549360"/>
            <a:ext cx="703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usten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Ursache im Respirationstrakt &gt; der oberen Atem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2" idx="3"/>
            <a:endCxn id="11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rachealkollap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rache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aryngitis/Pharyng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remdkörpe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umo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r unte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tem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800" y="549360"/>
            <a:ext cx="71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usten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Ursache im Respirationstrakt &gt; der unteren Atem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7" idx="3"/>
            <a:endCxn id="12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neumon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fektion mit Lungenwürmer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ronch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elines Asthm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ungenödem (kardi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nd nicht-kardiogen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ungenmetastas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imärer Lungen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neumonitis dur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erzwürme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ompression dur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änderun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ßerhalb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spirationstrakt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6640" y="549360"/>
            <a:ext cx="679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usten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&gt; Kompression durch Veränderungen außerhalb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spirationstrakt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2" idx="3"/>
            <a:endCxn id="12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vergrößerte intrathorak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ymphknot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vergrößertes linkes Artriu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horaxergus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umo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6T09:53:17Z</dcterms:modified>
  <cp:revision>329</cp:revision>
  <dc:subject/>
  <dc:title>Vorstellung einer Neuheit</dc:title>
</cp:coreProperties>
</file>